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DD5-9396-4DB0-96AD-01712DFD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965-6430-499E-9273-CA2B5B16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56A-DE6E-45E7-B6C5-832D793A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F5B-2087-40DF-AE99-B1503977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786-41E4-4B1C-8092-A2F64AEF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55F-214F-4D61-9CE8-2EDF5FB3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9E9-B395-421A-AA91-08CF360F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349-2C5E-48E9-B188-4A38A3AF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82D-FCCB-4FBB-8808-D273096C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3DC-A8B1-4A31-9C94-D04184C5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F5E-0DC9-4815-A50C-C44DF79E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A4E-FF81-42DF-AD5E-8C63206C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6FD1-7372-4AA6-BEE0-E0BFE7EC1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6753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ramación de Bases de Datos © Carlos de Mesa Mansilla</a:t>
            </a:r>
            <a:br>
              <a:rPr sz="1200"/>
            </a:br>
            <a:r>
              <a:rPr b="0" lang="en-US" sz="4400" spc="-1" strike="noStrike">
                <a:solidFill>
                  <a:srgbClr val="006c61"/>
                </a:solidFill>
                <a:latin typeface="Verdana"/>
              </a:rPr>
              <a:t>Programación de Bases de Dato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33523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ción 4 PL/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arlos de Mesa Mans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6753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409680"/>
            <a:ext cx="8244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- ACTUALIZAMOS EL CAPITAL PENDIENTE DEL PREST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UPDATE PRESTA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T CAPITAL_PENDIENTE = CAPITAL_PENDIENTE - CAP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TRAS_PENDIENTES = CEIL((CAPITAL_PENDIENTE - CAP)/IMPORTE_LET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WHERE PRESTAMO# = :NEW.PRESTAMO#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- SACAMOS LOS DATOS PARA ACTUALIZAR EL PREST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 CAPITAL_PENDIENTE,LETRAS_PENDIENTES INTO CAPITAL,LET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ROM PRESTA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WHERE PRESTAMO# = :NEW.PRESTAMO#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- ACTUALIZAMOS EL SALDO DE LA CU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UPDATE CUE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T SALDO = SALDO - 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WHERE CUENTA# = CUEN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- MENSAJES INFORMATIVOS DE CAPITAL PENDIENTE Y Nº DE LETRAS PEND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F (CAPITAL&gt;0)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BMS_OUTPUT.PUT_LINE( 'NUEVA AMORTIZACIÓN:' || CAP || '. CAPITAL PENDIENTE: (' || CAPITAL || ')'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F (LETRAS&gt;0)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BMS_OUTPUT.PUT_LINE('FALTAN ' || LETRAS ||' POR PAGAR.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6753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35120" y="57229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92280"/>
            <a:ext cx="6913440" cy="576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49360"/>
            <a:ext cx="67672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2708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620640"/>
            <a:ext cx="6696000" cy="583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189000"/>
            <a:ext cx="7417080" cy="633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333360"/>
            <a:ext cx="54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cada esquema de usu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835280" y="1700280"/>
          <a:ext cx="2327040" cy="3616200"/>
        </p:xfrm>
        <a:graphic>
          <a:graphicData uri="http://schemas.openxmlformats.org/drawingml/2006/table">
            <a:tbl>
              <a:tblPr/>
              <a:tblGrid>
                <a:gridCol w="232704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e_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427640" y="1413000"/>
          <a:ext cx="4440240" cy="4055760"/>
        </p:xfrm>
        <a:graphic>
          <a:graphicData uri="http://schemas.openxmlformats.org/drawingml/2006/table">
            <a:tbl>
              <a:tblPr/>
              <a:tblGrid>
                <a:gridCol w="1439640"/>
                <a:gridCol w="1584360"/>
                <a:gridCol w="141624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a_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c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H="1">
            <a:off x="3419640" y="2852640"/>
            <a:ext cx="1296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347640" y="4292280"/>
            <a:ext cx="12970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347640" y="3500280"/>
            <a:ext cx="1368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563640" y="3573360"/>
            <a:ext cx="1081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347640" y="357336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675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549360"/>
            <a:ext cx="81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OR REPLACE PROCEDURE cuota_integra2 (bl NUMBER)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sultado NUMBE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 cuota + (bl-base_hasta) * tipo_aplicable/100 into resultado from tabla_impositiva where bl between base_hasta and base_hasta+resto_hast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BMS_OUTPUT.PUT_LINE('Cuota Integra para Base Liquidable ' || bl || ' = ' || resultado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 OTHERS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 cuota + (bl-base_hasta) * tipo_aplicable/100 into resultado from tabla_impositiva where base_hasta=(select MAX(base_hasta) from tabla_impositiva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BMS_OUTPUT.PUT_LINE('Cuota Integra para Base Liquidable ' || bl || ' = ' || resultado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D cuota_integra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31520" y="34920"/>
            <a:ext cx="32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jercicio 1.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6753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836640"/>
            <a:ext cx="860436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DU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"ALUMNO1"."CUOTA_INTEGRA" (bl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UMBE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g tabla_impositiva%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OWTYP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;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g_ant tabla_impositiva%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OWTYP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;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sult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UMBE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;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URSO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1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*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ROM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tabla_impositiva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RDE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Y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base_hasta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C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;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EGI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PE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1;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OOP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ETCH c1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T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reg;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F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reg.base_hasta&gt;bl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1%NOTFOUND)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HE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BMS_OUTPUT.PUT_LINE(reg_ant.cuota || ' + ( ' || bl || '-' || reg_ant.base_hasta || ') * ' || reg_ant.tipo_aplicable|| '/100');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sult:= reg_ant.cuota + (bl - reg_ant.base_hasta) * reg_ant.tipo_aplicable/100;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BMS_OUTPUT.PUT_LINE(result);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XIT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;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D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F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;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g_ant:=reg;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D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OOP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;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LOS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1;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D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uota_integra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560" y="25092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jercicio 1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675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54960" y="177840"/>
            <a:ext cx="30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jercici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692280"/>
            <a:ext cx="860436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DU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"ALUMNO1"."GRAVAMEN" (bl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UMBE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sultado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UMBE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;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vamen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UMBE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;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EGI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uota + (bl-base_hasta) * tipo_aplicable/100, cuota + (bl-base_hasta) * tipo_aplicable/bl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t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resultado,gravamen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rom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tabla_impositiva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whe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bl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etwee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base_hasta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d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base_hasta+resto_hasta;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BMS_OUTPUT.PUT_LINE('Cuota Integra para Base Liquidable ' || bl || ' = ' || resultado);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BMS_OUTPUT.PUT_LINE('Gravamen para Base Liquidable ' || bl || ' = ' || gravamen);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XCEPTION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WHE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HE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uota + (bl-base_hasta) * tipo_aplicable/100, cuota + (bl-base_hasta) * tipo_aplicable/bl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t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resultado,gravamen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rom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tabla_impositiva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whe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base_hasta=(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AX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base_hasta)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rom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tabla_impositiva);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BMS_OUTPUT.PUT_LINE('Cuota Integra para Base Liquidable ' || bl || ' = ' || resultado);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BMS_OUTPUT.PUT_LINE('Gravamen para Base Liquidable ' || bl || ' = ' || gravamen);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D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gravame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675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54960" y="177840"/>
            <a:ext cx="30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jercicio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669960"/>
            <a:ext cx="7956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OR REPLACE TRIGGER salario_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FORE INSERT OR UPDATE ON 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otal 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 SUM(sal) INTO total FROM  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F (INSERTING AND (total + :NEW.sal &gt; 50000000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BMS_OUTPUT.PUT_LINE('Sobrepasado límite de salario al insertar en tabla de empleados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AISE_APPLICATION_ERROR( -20001, 'Sobrepasado límite de salario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SIF (UPDATING('sal') AND (total + :NEW.sal - :OLD.sal &gt; 50000000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BMS_OUTPUT.PUT_LINE('Sobrepasado límite de salario al modificar en tabla de empleados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AISE_APPLICATION_ERROR( -20001, 'Sobrepasado límite de salario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6753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54960" y="177840"/>
            <a:ext cx="30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jercicio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692280"/>
            <a:ext cx="860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PLAC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RIGGE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"ALUMNO1".SALARIO_JEF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FOR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SERT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PD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"ALUMNO1"."EMP"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FERENCING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L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L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EW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EW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ACH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OW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lario_jef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UMBE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;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GIN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al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T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alario_jef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ROM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mp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HER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mpno = :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EW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jefeno;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(salario_jefe &lt; :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EW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sal)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N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DBMS_OUTPUT.PUT_LINE('Error:Salario de jefe ('|| salario_jefe ||') menor que el de subordinado('|| :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EW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sal ||').');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RAISE_APPLICATION_ERROR( -20001, 'Salario de jefe menor que subordinado' );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;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96720" y="404640"/>
            <a:ext cx="1885680" cy="6753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74040" y="0"/>
            <a:ext cx="30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jercicio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04640"/>
            <a:ext cx="795672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OR REPLACE FUNCTION tipo_ej7 (n NUMBER) RETURN NUMBER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g tipo_interes%ROW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g_ant tipo_interes%ROW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sult NUMBER(6,3);--tipo_interes.tipo_aplicable%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URSOR c1 IS SELECT * FROM tipo_interes ORDER BY cantidad A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PEN 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ETCH c1 INTO re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F (reg.cantidad&gt;n or c1%NOTFOUND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sult:=reg_ant.tipo_aplica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g_ant:=re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LOSE 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D tipo_ej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675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08000" y="2205000"/>
            <a:ext cx="633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OR REPLACE TRIGGER upd_tipo_EJ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FTER INSERT ON impo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PDATE imposiciones SET tipo_aplicable=tipo_ej7(cantida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74040" y="260280"/>
            <a:ext cx="30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jercicio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6753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549360"/>
            <a:ext cx="817236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OR REPLACE TRIGGER CONTROL_LETRAS_EJ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FORE INSERT OR UPDATE ON LETRAS_PRESTA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EACH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ALDO_CUENTA NUMB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APITAL NUMB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ETRAS NUMBER(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ENTA NUMB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AP  NUMB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 SACAMOS NUMERO DE CU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 CUENTA# INTO CUE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FROM PRESTA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WHERE PRESTAMO# = :NEW.PRESTAMO#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- COMPROBAMOS SALDO EN LA CU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 SALDO INTO SALDO_CUENTA FROM CUENTA WHERE CUENTA#=CUEN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F UPDATING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AP := :NEW.CAPITAL_AMORTIZADO - :OLD.CAPITAL_AMORTIZAD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AP := :NEW.CAPITAL_AMORTIZAD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F (SALDO_CUENTA&lt;CAP)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BMS_OUTPUT.PUT_LINE('SALDO ('|| SALDO_CUENTA ||') INSUFICIENTE PARA INGRESAR LETRA ('|| CAP ||').'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AISE_APPLICATION_ERROR( -20001, 'SALDO INSUFICIENTE.'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74040" y="0"/>
            <a:ext cx="30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jercicio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11:59Z</dcterms:created>
  <dc:creator>carlos</dc:creator>
  <dc:description/>
  <dc:language>en-US</dc:language>
  <cp:lastModifiedBy>jj</cp:lastModifiedBy>
  <dcterms:modified xsi:type="dcterms:W3CDTF">2006-03-30T06:47:49Z</dcterms:modified>
  <cp:revision>91</cp:revision>
  <dc:subject/>
  <dc:title>Programación de Bases de Datos © Carlos de Mesa Mansilla Programación de Bases de Datos   </dc:title>
</cp:coreProperties>
</file>